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B10F-2A56-4993-A152-3F62C518606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6C10-E3ED-47BC-AE58-15EEB6B2B52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DA1F-BE29-46B6-8376-AD500317875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8EB8-81CB-40A2-B22E-4C198C7BF05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F199-6783-45C4-94AB-27D06143A57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E2C3-7A76-4C6B-B9D3-189226AF143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73E6-1665-4848-AAA7-2954ED6D86E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3E9D-E8DF-490C-AAE6-0780DD610B6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3CE1-CE38-4EA4-A5B2-9CF7B617F4C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1C57-20A3-4DB8-89FD-6B7083C8224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C211-1764-4842-9A95-C261BD0408A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267D-83E2-4A67-B0E5-6E5708EE62D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5AE1-5E92-4DFA-8FB6-53F7E2C1930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9AE1-CBD6-4498-B1AC-1C8FE3BA3DF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1124-D4F5-47A1-9D86-E5F8AA65BA0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ED97-8AAE-4EA3-AF9D-FEE6F59BD72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FAA0-F103-4099-B078-34A575A7824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3F3D-B9BF-4EF1-91F0-6DB8AFB1F19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18C7-BE99-4EDD-BC96-EFD17E667DA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FBB2-071F-4758-B9EA-E71D7E1CB6B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F4A3-9DB7-4C7A-A7F8-5A2A6FF0BA0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DDA1-3413-43F7-8DFC-F527B8EA331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3241-362B-40DC-AE43-AD583AE8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38F3-2BE3-48FC-91E7-93D9C2BA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6E6B-C11F-46B4-B4FE-911BA7ED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41E0-B852-4339-86FC-C9EE34A4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B80D-9B1C-4EFC-A5C4-B500B3E5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ACDC-15C9-403D-9DEC-BE55C9F8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2D07-4212-4196-8227-39C59A76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3BAF-20E3-403D-B7E5-EB860FD2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BEAE-3C6B-4F28-8BE7-175BC610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A85A-66B5-4684-9ABA-CFF9DE31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596C-A075-4E74-9FA9-73564D1B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6B65-ECB0-43B5-9BF5-64A28B9F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4025-4BD8-46FB-B3B8-4BE13AC3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3E98-345D-4E47-966D-ABA6DAC7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1BA5-9483-45F2-9FBE-A0EC598E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8C78-127C-400B-BFCA-4DCB7329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445A-D941-418E-A8F4-CDB8D399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FA2B-D884-4024-9B95-CA029450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DF2C-E176-4205-99CB-7D689777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9393-3BB9-4C1B-B300-55DC303F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8EDA-9931-4167-9BEB-2CC884FD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DDB0-6EC9-4433-9394-7C2783F0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100A-B8C0-474C-AF8A-032F4CA7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F35E-3728-4587-8289-502F6F53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c32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03640" y="259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ana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fld id="{3F011E10-F67C-4CE2-B25A-27788078CDA7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1187280" y="26028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2276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1"/>
          <p:cNvSpPr/>
          <p:nvPr/>
        </p:nvSpPr>
        <p:spPr>
          <a:xfrm>
            <a:off x="4572000" y="0"/>
            <a:ext cx="4572000" cy="2276640"/>
          </a:xfrm>
          <a:prstGeom prst="rect">
            <a:avLst/>
          </a:prstGeom>
          <a:solidFill>
            <a:srgbClr val="50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4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3352680" cy="1969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Users\AVC\Desktop\powerpoint\logo_MENDELU_CMYK-2.gif"/>
          <p:cNvPicPr/>
          <p:nvPr/>
        </p:nvPicPr>
        <p:blipFill>
          <a:blip r:embed="rId4"/>
          <a:stretch/>
        </p:blipFill>
        <p:spPr>
          <a:xfrm>
            <a:off x="1285920" y="5072040"/>
            <a:ext cx="1414440" cy="1108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0436-D33A-4337-BD77-A12620E98E0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c32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187280" y="26028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684360" y="2723400"/>
            <a:ext cx="820728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32c92"/>
                </a:solidFill>
                <a:latin typeface="Arial"/>
                <a:ea typeface="Arial"/>
              </a:rPr>
              <a:t>Analýza aktuální zapojení ČR do konceptu Smart City a Smart Region v souvislosti s novými tre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32c92"/>
                </a:solidFill>
                <a:latin typeface="Arial"/>
                <a:ea typeface="Arial"/>
              </a:rPr>
              <a:t>Libor Gr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32c92"/>
                </a:solidFill>
                <a:latin typeface="Arial"/>
                <a:ea typeface="Arial"/>
              </a:rPr>
              <a:t>Stanislav Volč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C:\Users\spravce\Downloads\loga_bila na magente.png"/>
          <p:cNvPicPr/>
          <p:nvPr/>
        </p:nvPicPr>
        <p:blipFill>
          <a:blip r:embed="rId1"/>
          <a:srcRect l="2580" t="9437" r="7451" b="411"/>
          <a:stretch/>
        </p:blipFill>
        <p:spPr>
          <a:xfrm>
            <a:off x="1692360" y="0"/>
            <a:ext cx="3456000" cy="154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5148360" y="-27000"/>
            <a:ext cx="4013280" cy="1574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3"/>
          <a:stretch/>
        </p:blipFill>
        <p:spPr>
          <a:xfrm>
            <a:off x="536400" y="404640"/>
            <a:ext cx="72252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44120" y="13413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ůměrná úroveň naplnění kritérií procesů PDCA implementace konceptu SC/R ve výběrovém souboru samosprávných krajů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57" name="picture" descr=""/>
          <p:cNvPicPr/>
          <p:nvPr/>
        </p:nvPicPr>
        <p:blipFill>
          <a:blip r:embed="rId1"/>
          <a:stretch/>
        </p:blipFill>
        <p:spPr>
          <a:xfrm>
            <a:off x="1979640" y="2492280"/>
            <a:ext cx="5400720" cy="4321440"/>
          </a:xfrm>
          <a:prstGeom prst="rect">
            <a:avLst/>
          </a:prstGeom>
          <a:ln w="0">
            <a:noFill/>
          </a:ln>
        </p:spPr>
      </p:pic>
      <p:sp>
        <p:nvSpPr>
          <p:cNvPr id="158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2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44120" y="13413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ůměrná úroveň naplnění kritérií procesů PDCA implementace konceptu SC/R ve výběrovém souboru krajských měst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60" name="picture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400720" cy="4321080"/>
          </a:xfrm>
          <a:prstGeom prst="rect">
            <a:avLst/>
          </a:prstGeom>
          <a:ln w="0">
            <a:noFill/>
          </a:ln>
        </p:spPr>
      </p:pic>
      <p:sp>
        <p:nvSpPr>
          <p:cNvPr id="161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3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744120" y="13413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ůměrná úroveň naplnění kritérií procesů PDCA implementace SC/R ve výběrovém souboru bývalých okresních a ostatních měst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63" name="picture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400720" cy="4319640"/>
          </a:xfrm>
          <a:prstGeom prst="rect">
            <a:avLst/>
          </a:prstGeom>
          <a:ln w="0">
            <a:noFill/>
          </a:ln>
        </p:spPr>
      </p:pic>
      <p:sp>
        <p:nvSpPr>
          <p:cNvPr id="164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4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50920" y="1052640"/>
          <a:ext cx="8569080" cy="5659200"/>
        </p:xfrm>
        <a:graphic>
          <a:graphicData uri="http://schemas.openxmlformats.org/drawingml/2006/table">
            <a:tbl>
              <a:tblPr/>
              <a:tblGrid>
                <a:gridCol w="1800000"/>
                <a:gridCol w="1081080"/>
                <a:gridCol w="1152720"/>
                <a:gridCol w="1224000"/>
                <a:gridCol w="1150920"/>
                <a:gridCol w="1044360"/>
                <a:gridCol w="1116000"/>
              </a:tblGrid>
              <a:tr h="684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a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ánov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iz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ntr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rek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klus PD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56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avskoslez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soč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omou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Úste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dubi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lín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ihoče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ředoče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zeň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álovéhrade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ere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ihomorav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rlovar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66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(v %)                                               5/6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50920" y="1052640"/>
          <a:ext cx="8569080" cy="5742000"/>
        </p:xfrm>
        <a:graphic>
          <a:graphicData uri="http://schemas.openxmlformats.org/drawingml/2006/table">
            <a:tbl>
              <a:tblPr/>
              <a:tblGrid>
                <a:gridCol w="1728720"/>
                <a:gridCol w="992160"/>
                <a:gridCol w="1174680"/>
                <a:gridCol w="1265400"/>
                <a:gridCol w="1133280"/>
                <a:gridCol w="1158840"/>
                <a:gridCol w="1116000"/>
              </a:tblGrid>
              <a:tr h="684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aj/mě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ánov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iz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ntr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rek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klus PD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ra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Středočesk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oravskoslezsk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Zlín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Třin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lzeňsk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ladá Bolesla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ardub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radec Králov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Litoměř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……</a:t>
                      </a: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Břecla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Rychnov n. Kně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h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68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(v %)                                               6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státu - plošná                                               1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836640"/>
          <a:ext cx="9144000" cy="5059440"/>
        </p:xfrm>
        <a:graphic>
          <a:graphicData uri="http://schemas.openxmlformats.org/drawingml/2006/table">
            <a:tbl>
              <a:tblPr/>
              <a:tblGrid>
                <a:gridCol w="514440"/>
                <a:gridCol w="7832520"/>
                <a:gridCol w="797040"/>
              </a:tblGrid>
              <a:tr h="5364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vytvoření jasného strategického rámce implementace konceptu SC/R na úrovni státu v oblastech národního záj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144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národní strategii pro rozvoj konceptu SC/R v hlavních cílových oblastech.  Strategie by měla zahrnovat cíle a přístupy státu v následujících segmentech (prosíme o zatržení  relevantní oblasti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Inovace a rozvoj podnikání (Smart akcelerátory, průmysl 4.0, sdílená ekonomika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76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CT a efektivní správa území (městské sítě, wi-fi, E-government, E-komunikace, centrální řídící jednotky, digitalizovaná městská data/passporty, open data..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364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Udržitelná energetika (energetický management, smart-grid systémy, kogenerační jednotky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6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Udržitelná mobilita (doprava a dopravní systémy, e-mobilita, cyklodoprava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364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Životní prostředí a udržitelné hospodaření s přírodními zdroji (voda, odpady, znečištění, veřejná zeleň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75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) Zdravotnictví, bezpečnost a sociální služ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6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) Vzdělávání a 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57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) Kultura a cestovní r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367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tvářet novou strategii, ale odstranit duplicity stávajících strategií definované pro jednotlivé oblasti a zahrnout SC/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730080"/>
          <a:ext cx="9180360" cy="6031080"/>
        </p:xfrm>
        <a:graphic>
          <a:graphicData uri="http://schemas.openxmlformats.org/drawingml/2006/table">
            <a:tbl>
              <a:tblPr/>
              <a:tblGrid>
                <a:gridCol w="473040"/>
                <a:gridCol w="8131320"/>
                <a:gridCol w="576000"/>
              </a:tblGrid>
              <a:tr h="79236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rozpracování regionálních strategií (v návaznosti na národní strategii, zohledňujících specifika rozvoje území) strategií pro rozvoj konceptu SC/R pro následující segmenty (respondenti zatrhnou relevantní oblasti konceptu SC/R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714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Inovace a rozvoj podnikání (Smart akcelerátory,průmysl 4.0,sdílená ekonomika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09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CT a efektivní správa území (městské sítě, wi-fi, E-government, E-komunikace, centrální řídící jednotky, digitalizovaná městská data/pasporty, open data..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Udržitelná energetika (energetický management, smart-grid systémy, kogenerační jednotky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714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Udržitelná mobilita (doprava a dopravní systémy, e-mobilita, cyklodoprava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Životní prostředí a udržitelné hospodaření s přírodními zdroji (voda, odpady, znečištění, veřejná zeleň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0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) Zdravotnictví, bezpečnost a sociální služ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0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) Vzdělávání a 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2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) Kultura a cestovní r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stranit resortismus ze strany státu, kdy přístup k implementaci konceptu Smart je specifický pro relevantní ministerstva (především MMR, MV, MPSV, MPO, MŽP), vytvořit jednotnou pracovní skupinu, nabízí se využití některé z existujících „Rad vlády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sně vymezit kompetence a odpovědnosti (odstranění resortismu ministerstev) za naplňování národní strategie + nezávislá expertní kom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09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dotační tituly pro podporu implementace konceptu SC/R v souladu se strategií ČR (jasně definovaná kritéria pro využití moderních technologií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09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stručnou a jasnou metodiku vztahující se ke způsobům čerpání prostředků pro realizaci národní strategie ve vymezených oblaste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státu- plošná                                                2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státu – plošná                                               3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0" y="836640"/>
          <a:ext cx="9144000" cy="5878440"/>
        </p:xfrm>
        <a:graphic>
          <a:graphicData uri="http://schemas.openxmlformats.org/drawingml/2006/table">
            <a:tbl>
              <a:tblPr/>
              <a:tblGrid>
                <a:gridCol w="468360"/>
                <a:gridCol w="7864560"/>
                <a:gridCol w="811080"/>
              </a:tblGrid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rozvoj jednotné komunikační platformy a sdílení informací  (například MMR ve spolupráci se Svazem měst a obcí a dalšími iniciativami) s možností osobního kontaktu (expertního poradenství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kytovat informace o podmínkách realizace národní strategie SC/R -poskytování poradenského servisu -  možnost osobního kontaktu a konkrétního expertního poradenství pro specifické podmínky obce/region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5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ále podporovat možnost  seznámit  se s příklady dobré prax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53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 pro kategorii „menších měst“ především v rámci Č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42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 pro „větší města“ jak v rámci ČR, tak i v zahranič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110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a zajistit aktualizaci zásobníku/databáze ověřených řešení pro jednotlivé oblasti implementace konceptu SC/R a firem, které řešení úspěšně realizovaly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5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pracovat jednoduchou metodickou pomůcku (motivační, iniciační charakt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ěřit se na implementaci konceptu SC/R na státní úrovni, tzn. vytvořit „Smart stát“,  a to především pro oblast státní správy (ID občanů, ITC a efektivní výkon státní správ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55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ovat osvětu a vzděláv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lovat povědomí o konceptu Smart prostřednictvím osvětové činnosti, PR (propagace) konceptu SC/R ze strany stá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ovat vzdělávání v oblasti SC/R (cílová skupina děti  - ZŠ; SŠ, odborníci na VŠ, celoživotní vzdělávání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měst - specifická                                         1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-25560" y="836640"/>
          <a:ext cx="9144000" cy="4832280"/>
        </p:xfrm>
        <a:graphic>
          <a:graphicData uri="http://schemas.openxmlformats.org/drawingml/2006/table">
            <a:tbl>
              <a:tblPr/>
              <a:tblGrid>
                <a:gridCol w="684360"/>
                <a:gridCol w="7920000"/>
                <a:gridCol w="539640"/>
              </a:tblGrid>
              <a:tr h="5349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kračovat v podpoře strategického plánování implementace konceptu SC/R na úrovni menších obcí (poradenství,lidské zdroje,finanční zdroj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9692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zapojení úředníků krajů/měst do jednotlivých fází implementace konceptu SC/R umožněním jejich finančního ohodnocení nad rámec stávajícího odměňování (např. dohody o provedení práce, při zapojení do projektů možnost získat úvazek větší než 1,0…atd.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možnosti stínování úředníků v případě zájmu o podrobné seznámení se s příkladem dobré prax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08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ovat kvalitní projektovou přípravu a zadávací dokumentaci projekt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632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ožnit financovat kvalitní projektovou přípravu investičních akc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85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poradenskou platformu pro spolupráci na zadávací dokumentaci pro projek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60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ě podporovat implementaci konceptu SC/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 rámci investičních dotačních titulů (jak na národní, tak i regionální úrovni) nastavit podmínky tak, aby využití těchto zdrojů financování umožňovalo „Smart řešení“ v souladu s národní/regionální strategií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vhodné programy a zjednodušit pravidla čerpání finančních zdrojů z Evropských fond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měst - specifická                                         2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836640"/>
          <a:ext cx="9144000" cy="5499000"/>
        </p:xfrm>
        <a:graphic>
          <a:graphicData uri="http://schemas.openxmlformats.org/drawingml/2006/table">
            <a:tbl>
              <a:tblPr/>
              <a:tblGrid>
                <a:gridCol w="611280"/>
                <a:gridCol w="7721640"/>
                <a:gridCol w="811080"/>
              </a:tblGrid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fond pro financování pilotních projektů SC/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04472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ožnit financování pilotních projektů  (sdílení rizika, vhodný pro větší města)(jednoduchá a dynamická pravidla pro hodnocení projektů bez ohledu na oblast - kritéria hodnocení podle výsledných efektů projektů, připustit neúspěšnost projektu, výběr za pomocí expertní skupiny nebo referencí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systém inovačních voucherů pro podporu rozvoje těch Smart řešení, která jsou v souladu s národní/regionální strategií rozvoje konceptu SC/R (využitelný pro menší města, volnost ve výběru oblastí implementace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a jasně vymezit jasná pravidla a metodiku pro využívání PPP projekt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stranit legislativní barié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ést revizi (pro potřebu snazší implementace konceptu SC/R) zákona o veřejných zakázká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64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ožnit zapracování "prvků Smart technologií" (které zvyšují cenu a nejsou definovány nebo definovatelné v cenících) do projektů revitalizací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předpoklady pro preferenci zapojení místních firem do implementace konceptu SC/R či firem, které realizovaly předcházející etapu úspěšných řešení (omezit napadání a nekalou konkurenc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676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žadovat podmínku otevřených řešení umožňujících kompatibilitu navazujících modulárních projektů financovaných z veřejn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32c92"/>
                </a:solidFill>
                <a:latin typeface="Arial"/>
              </a:rPr>
              <a:t>Osnova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Cíl  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Metodický postup řešení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Vyhodnocení procesu implementace konceptu Smart City/Smart Region v ČR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Doporučení na podporu implementace konceptu Smart City/Region v ČR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měst - specifická                                         3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836640"/>
          <a:ext cx="9144000" cy="1382760"/>
        </p:xfrm>
        <a:graphic>
          <a:graphicData uri="http://schemas.openxmlformats.org/drawingml/2006/table">
            <a:tbl>
              <a:tblPr/>
              <a:tblGrid>
                <a:gridCol w="611280"/>
                <a:gridCol w="7721640"/>
                <a:gridCol w="811080"/>
              </a:tblGrid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jistit, aby legislativa držela krok s technologickým pokrokem (např. definovat požadavky na autonomní dopravu a podobně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ovat formy soudně uznatelných dokumentů pro archivaci (mohou být v elektronické podobě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ovat minimální standardy Smart technologi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mbria"/>
              </a:rPr>
              <a:t>Děkujeme za pozornost</a:t>
            </a:r>
            <a:endParaRPr b="1" lang="en-US" sz="3200" spc="-1" strike="noStrike">
              <a:solidFill>
                <a:srgbClr val="c32c92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íl projektu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87280" y="177336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05050"/>
                </a:solidFill>
                <a:latin typeface="Arial"/>
              </a:rPr>
              <a:t>Cílem projektu bylo zmapovat aktuální stav a míru zapojení jednotlivých krajů, krajských měst a bývalých okresních měst do konceptu Smart City/Smart Region, zmapovat úroveň procesu implementace tohoto konceptu, názorů na potřebu jeho podpory a dle zjištění následně navrhnout vhodná opatření, jak jejich intenzitu zapojení do tohoto konceptu zvýšit. </a:t>
            </a:r>
            <a:endParaRPr b="0" lang="en-US" sz="2800" spc="-1" strike="noStrike">
              <a:solidFill>
                <a:srgbClr val="50505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7280" y="4392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1/5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87280" y="1295280"/>
            <a:ext cx="74995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imární šetření bylo koncipováno tak, aby umožňovalo získat informace využitelné pro komplexní mapování a komparaci úrovně implementace konceptu strategického řízení SC/R, participace, motivace, bariér, síťování, role vlády a potřeb podpory zvýšení míry implementace SC/R .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Kritéria a stupnice pro hodnocení míry zapojení měst/krajů do konceptu SC/R vychází z konceptu analýzy Demingova cyklu (PDCA), který je využíván pro evaluaci cyklu neustálého zlepšování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Rámec evaluace implementace konceptu SC/R sestával ze 48 hierarchicky uspořádaných komponent/kritérií, které byly rozděleny na 4 na sebe navazující vyšší celky procesu PDCA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Metodika byla upravena podle standardů ETSI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V úvodním dopise byl stručně objasněn mandát, účel a předmět výzkumu s žádostí o účast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187280" y="1486080"/>
            <a:ext cx="74995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Celkem bylo kontaktováno 13 zástupců Krajských úřadů, zástupci hlavního města Prahy, 13 zástupců krajských měst a 55 zástupců bývalých okresních a dalších měst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Následně byli zástupci krajských úřadů a měst opět kontaktováni telefonicky, kdy byl dojednán konkrétní termín schůzky a kontaktní osoby pověřené vedením města. V této iniciační fázi se  5 zástupců měst odmítlo z různých důvodů výzkumu zúčastnit  (9 %). Také se nepodařilo realizovat setkání se zástupci Jihomoravského kraje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o každý kraj/město zahrnuté do výzkumu byla provedena ex ante analytická příprava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46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2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187280" y="1267920"/>
            <a:ext cx="74995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Primární úroveň mapování a hodnocení 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Semi-strukturované rozhovory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Následné expertní hodnocení procesu implementace konceptu SC/R s využitím analýzy PDCA cyklu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Výsledky rozhovoru byly spolu s výsledky analytické přípravné fáze zpracovány prostřednictvím kódování standardizovaných odpovědí do databáze výsledků šetření - „Karta města“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Názory a náměty představitelů krajů/měst pro podporu implementace konceptu SC/R shromážděné prostřednictvím řízených rozhovorů byly následně kategorizovány a sumarizovány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Celkový přehled navrhovaných opatření byl elektronicky zaslán k vyjádření všem představitelům krajů/měst, kteří se účastnili výzkumu + verifikace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48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3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187280" y="141300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Sekundární úroveň - Expertní mapování procesu implementace konceptu Smart City/Region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Vzhledem k srovnatelné významnosti jednotlivých fází cyklu PDCA, která byla potvrzena výsledky expertního hodnocení metodou AHP byla v první úrovni hierarchické struktury přiřazena stejná váha 0,25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otože druhá úroveň hierarchické struktury využívá rozsáhlého souboru sub-kritérií, jejichž počet je pro jednotlivé fáze PDCA rozdílný, byla pro komplexní MCA hodnocení využita metoda postupného rozvrhu vah na základě alokace bodového hodnocení významnosti kritéria. 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4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187280" y="191628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Výsledná váha byla získána jako výsledek participativního hodnocení v expertní skupině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Pro dosažení srovnatelnosti významnosti souboru kritérií, byly váhy sub kritérií následně normovány tak, aby jejich součet byl roven celkové hodnotě kritéria na vyšší hierarchické úrovni.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Výsledné skóre bylo zjišťováno na základě normovaných hodnot výsledné databáze výsledků 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5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713880" y="9669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stupem verifikovaná standardizovaná databáze odpovědí - matice (75 záznamů x 35 údajů), tj. 2625 zpracovaných údajů.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54" name="picture" descr=""/>
          <p:cNvPicPr/>
          <p:nvPr/>
        </p:nvPicPr>
        <p:blipFill>
          <a:blip r:embed="rId1"/>
          <a:stretch/>
        </p:blipFill>
        <p:spPr>
          <a:xfrm>
            <a:off x="1979640" y="2519280"/>
            <a:ext cx="5400720" cy="4078440"/>
          </a:xfrm>
          <a:prstGeom prst="rect">
            <a:avLst/>
          </a:prstGeom>
          <a:ln w="0">
            <a:noFill/>
          </a:ln>
        </p:spPr>
      </p:pic>
      <p:sp>
        <p:nvSpPr>
          <p:cNvPr id="155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1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3:47:14Z</dcterms:created>
  <dc:creator>Pavla Soukopová</dc:creator>
  <dc:description/>
  <dc:language>en-US</dc:language>
  <cp:lastModifiedBy>Libor Grega</cp:lastModifiedBy>
  <dcterms:modified xsi:type="dcterms:W3CDTF">2019-03-22T12:27:34Z</dcterms:modified>
  <cp:revision>119</cp:revision>
  <dc:subject/>
  <dc:title>Snímek 1</dc:title>
</cp:coreProperties>
</file>